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9AE-D750-4409-9E1F-B229708B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B4A-0F48-4CFE-826A-E93E0B6B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0B5-7E15-4100-AF3B-FDBF1A7E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EE3-C7EE-4F1D-AE57-DF7F94B9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901-E9C1-4E1A-B4E1-E235F186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49B-EAE6-4960-9283-DDB9360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4D0-4F9A-4380-9AFE-6A0E726A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CF4-A32C-430F-8975-E7D817B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F7C-6559-4751-AEB2-41DD3B6A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775-8454-49AD-8EA9-CF0EB855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C1C-F278-454B-9042-C26542B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488-7227-4156-8987-A61354EA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32A9-E2B4-4DEA-AA9E-268A25C96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133720" y="0"/>
            <a:ext cx="518148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2133720" y="587520"/>
            <a:ext cx="5181480" cy="2841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2133720" y="3276720"/>
            <a:ext cx="544644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2133720" cy="2422440"/>
          </a:xfrm>
          <a:prstGeom prst="rect">
            <a:avLst/>
          </a:prstGeom>
          <a:ln w="0">
            <a:noFill/>
          </a:ln>
        </p:spPr>
      </p:pic>
      <p:pic>
        <p:nvPicPr>
          <p:cNvPr id="46" name="~PP620.WAV" descr=""/>
          <p:cNvPicPr/>
          <p:nvPr/>
        </p:nvPicPr>
        <p:blipFill>
          <a:blip r:embed="rId6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523880" y="685800"/>
            <a:ext cx="6413760" cy="601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666880" y="152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nhaler Tip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~PP2011.WAV" descr=""/>
          <p:cNvPicPr/>
          <p:nvPr/>
        </p:nvPicPr>
        <p:blipFill>
          <a:blip r:embed="rId4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3:49:20Z</dcterms:created>
  <dc:creator>Jamie</dc:creator>
  <dc:description/>
  <dc:language>en-US</dc:language>
  <cp:lastModifiedBy>Jamie</cp:lastModifiedBy>
  <dcterms:modified xsi:type="dcterms:W3CDTF">2007-11-28T03:50:47Z</dcterms:modified>
  <cp:revision>1</cp:revision>
  <dc:subject/>
  <dc:title>Slide 1</dc:title>
</cp:coreProperties>
</file>